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57E-1D38-422D-ADCA-9945F21D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8B9-30E8-4245-8C75-04624BF5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A91-F779-40B1-8549-0C91701C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721-9585-4E24-8582-AF0ABB89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3AB-7E58-4C3A-A18D-2BDF0D3B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ABE-C280-47A9-BA18-BF219BB3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22A6-D25E-4C48-A019-4BD437E8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AF3-DDDE-42AD-9F29-A02B0565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391-9827-401A-9DA9-259B6874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015-9461-4048-BBDE-A77DEF76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D531-C8A7-4D89-8D56-B3045E5C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F08-7554-40A6-8680-37D28B7F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E95E85-A022-4015-BD44-1517472F4E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E 5 PARAGRAPH ESSAY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paragraph at a time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Conclusion Paragrap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35160" y="2593800"/>
            <a:ext cx="6161040" cy="25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Restate the thesis statemen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Synthesize research to ask questions like…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y is this topic important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ow does it affect the rest of the world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Did this change your attitude of the topic?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onclusion Phrases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n conclusion, To summarize…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TextBox 3" descr=""/>
          <p:cNvPicPr/>
          <p:nvPr/>
        </p:nvPicPr>
        <p:blipFill>
          <a:blip r:embed="rId1"/>
          <a:stretch/>
        </p:blipFill>
        <p:spPr>
          <a:xfrm>
            <a:off x="2243160" y="4956120"/>
            <a:ext cx="4481640" cy="87804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457200" y="1801800"/>
            <a:ext cx="69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is the purpose of the Conclusion Paragraph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Right Side Up Triangle Mode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9064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estated Thes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al Conclusion              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Isosceles Triangle 4"/>
          <p:cNvSpPr/>
          <p:nvPr/>
        </p:nvSpPr>
        <p:spPr>
          <a:xfrm>
            <a:off x="2728800" y="2781360"/>
            <a:ext cx="3768840" cy="3125880"/>
          </a:xfrm>
          <a:prstGeom prst="triangle">
            <a:avLst>
              <a:gd name="adj" fmla="val 50000"/>
            </a:avLst>
          </a:prstGeom>
          <a:solidFill>
            <a:srgbClr val="a6d4a7"/>
          </a:solidFill>
          <a:ln w="9360">
            <a:solidFill>
              <a:srgbClr val="f0ac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240480" y="1422360"/>
            <a:ext cx="82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sic Idea: Go from a restatement of your thesis to a broader comment about the topic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nclusion Paragraph 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Content Placeholder 3" descr="Close_up_of_mako_shark_head_005.jpg"/>
          <p:cNvPicPr/>
          <p:nvPr/>
        </p:nvPicPr>
        <p:blipFill>
          <a:blip r:embed="rId1"/>
          <a:stretch/>
        </p:blipFill>
        <p:spPr>
          <a:xfrm>
            <a:off x="3351240" y="1417680"/>
            <a:ext cx="2309760" cy="1733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450720" y="3733920"/>
            <a:ext cx="8236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Restatement of Thesis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 if sharks are not as dangerous as they appear in the movies then why do we continue to fear them?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Broader Ideas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reality is, the media wants to depict sharks in a negative light because it gets ratings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Final Big Idea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 love things that scare us, but it is up to us as individuals to properly research the things in this world that we are told to watch out for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358720" y="3209760"/>
            <a:ext cx="439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commons.wikimedia.org/wiki/File:Close_up_of_mako_shark_head_005.jpg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271080"/>
            <a:ext cx="6426360" cy="15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How do we set up a 5 paragraph essay?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Content Placeholder 3" descr=""/>
          <p:cNvPicPr/>
          <p:nvPr/>
        </p:nvPicPr>
        <p:blipFill>
          <a:blip r:embed="rId1"/>
          <a:srcRect l="-14843" t="0" r="-14843" b="0"/>
          <a:stretch/>
        </p:blipFill>
        <p:spPr>
          <a:xfrm>
            <a:off x="5905440" y="271440"/>
            <a:ext cx="2932200" cy="161280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47760" y="2409840"/>
            <a:ext cx="84898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ntroduction Paragraph:  The               Mod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Isosceles Triangle 9"/>
          <p:cNvSpPr/>
          <p:nvPr/>
        </p:nvSpPr>
        <p:spPr>
          <a:xfrm rot="3618000">
            <a:off x="5752800" y="21697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a6d4a7"/>
          </a:solidFill>
          <a:ln w="9360">
            <a:solidFill>
              <a:srgbClr val="f0ac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Isosceles Triangle 10"/>
          <p:cNvSpPr/>
          <p:nvPr/>
        </p:nvSpPr>
        <p:spPr>
          <a:xfrm>
            <a:off x="5234040" y="52642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a6d4a7"/>
          </a:solidFill>
          <a:ln w="9360">
            <a:solidFill>
              <a:srgbClr val="f0ac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372240" y="3713040"/>
            <a:ext cx="655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Body Paragraph: The</a:t>
            </a:r>
            <a:r>
              <a:rPr b="0" lang="en-US" sz="2800" spc="-1" strike="noStrike">
                <a:solidFill>
                  <a:srgbClr val="a6d4a7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a6d4a7"/>
                </a:solidFill>
                <a:latin typeface="Marker Felt"/>
                <a:ea typeface="Marker Felt"/>
              </a:rPr>
              <a:t>1-3-3</a:t>
            </a:r>
            <a:r>
              <a:rPr b="0" lang="en-US" sz="1800" spc="-1" strike="noStrike">
                <a:solidFill>
                  <a:srgbClr val="a6d4a7"/>
                </a:solidFill>
                <a:latin typeface="Marker Felt"/>
                <a:ea typeface="Marker Fel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d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509760" y="5492880"/>
            <a:ext cx="81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Conclusion Paragraph: The              Mod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Introduction Paragrap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is the purpose of an introductory paragraph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152360" y="2290680"/>
            <a:ext cx="82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ok the audienc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troduce the topic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late the topic to something persona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xplain why the topic is importa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1603800" y="3860640"/>
            <a:ext cx="53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UT MOST IMPORTANTLY…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TextBox 7" descr=""/>
          <p:cNvPicPr/>
          <p:nvPr/>
        </p:nvPicPr>
        <p:blipFill>
          <a:blip r:embed="rId1"/>
          <a:stretch/>
        </p:blipFill>
        <p:spPr>
          <a:xfrm>
            <a:off x="360360" y="4846680"/>
            <a:ext cx="838692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Upside Down Triangle Mode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90640"/>
            <a:ext cx="8229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road Statemen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sis Stat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Isosceles Triangle 4"/>
          <p:cNvSpPr/>
          <p:nvPr/>
        </p:nvSpPr>
        <p:spPr>
          <a:xfrm rot="3543600">
            <a:off x="3244320" y="1944720"/>
            <a:ext cx="3768840" cy="3127320"/>
          </a:xfrm>
          <a:prstGeom prst="triangle">
            <a:avLst>
              <a:gd name="adj" fmla="val 50000"/>
            </a:avLst>
          </a:prstGeom>
          <a:solidFill>
            <a:srgbClr val="a6d4a7"/>
          </a:solidFill>
          <a:ln w="9360">
            <a:solidFill>
              <a:srgbClr val="f0ac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03760" y="1422360"/>
            <a:ext cx="87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sic Idea: Go from a general idea or comment and narrow it down to your thesis statem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or the following example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 TOPIC: Sharks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4" descr="Carcharodon_carcharias.jpg"/>
          <p:cNvPicPr/>
          <p:nvPr/>
        </p:nvPicPr>
        <p:blipFill>
          <a:blip r:embed="rId1"/>
          <a:stretch/>
        </p:blipFill>
        <p:spPr>
          <a:xfrm>
            <a:off x="1649520" y="1940040"/>
            <a:ext cx="6006960" cy="4505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781720" y="6445080"/>
            <a:ext cx="374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commons.wikimedia.org/wiki/File:Carcharodon_carcharias.jpg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troduction Paragraph 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Broad Idea)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When I was young I loved sharks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Slightly Narrower)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 remember watching Discovery Channel’s “Shark Week” and thinking that sharks must attack people all the time.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Narrower)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t was ingrained in me that sharks were blood thirsty creatures that I had every reason to fear.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(Specific Thesis Statement)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Yet, despite their bad reputation, sharks should not be considered a major threat to humans.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3" descr="Tigershark.JPG"/>
          <p:cNvPicPr/>
          <p:nvPr/>
        </p:nvPicPr>
        <p:blipFill>
          <a:blip r:embed="rId1"/>
          <a:stretch/>
        </p:blipFill>
        <p:spPr>
          <a:xfrm>
            <a:off x="3481560" y="1241280"/>
            <a:ext cx="2090520" cy="138276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2948400" y="2625840"/>
            <a:ext cx="305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commons.wikimedia.org/wiki/File:Tigershark.JPG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Body Paragraph: The</a:t>
            </a:r>
            <a:r>
              <a:rPr b="0" lang="en-US" sz="4000" spc="-1" strike="noStrike">
                <a:solidFill>
                  <a:srgbClr val="a6d4a7"/>
                </a:solidFill>
                <a:latin typeface="Calibri"/>
              </a:rPr>
              <a:t> </a:t>
            </a:r>
            <a:r>
              <a:rPr b="0" lang="en-US" sz="5900" spc="-1" strike="noStrike">
                <a:solidFill>
                  <a:srgbClr val="a6d4a7"/>
                </a:solidFill>
                <a:latin typeface="Marker Felt"/>
                <a:ea typeface="Marker Felt"/>
              </a:rPr>
              <a:t>1-3-3</a:t>
            </a:r>
            <a:r>
              <a:rPr b="0" lang="en-US" sz="4000" spc="-1" strike="noStrike">
                <a:solidFill>
                  <a:srgbClr val="a6d4a7"/>
                </a:solidFill>
                <a:latin typeface="Marker Felt"/>
                <a:ea typeface="Marker Felt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ode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176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a6d4a7"/>
                </a:solidFill>
                <a:latin typeface="Marker Felt"/>
                <a:ea typeface="Marker Felt"/>
              </a:rPr>
              <a:t>1-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arker Felt"/>
              </a:rPr>
              <a:t>: This means 1 source or citation followed by three ideas or comment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According to…(source) then follow this up wit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  <a:ea typeface="Marker Felt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 com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  <a:ea typeface="Marker Felt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 com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  <a:ea typeface="Marker Felt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Marker Felt"/>
              </a:rPr>
              <a:t> comment (with transition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09760" y="5079960"/>
            <a:ext cx="803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this is a 5 paragraph essay you will do this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a6d4a7"/>
                </a:solidFill>
                <a:latin typeface="Marker Felt"/>
                <a:ea typeface="Marker Felt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mes so you will have </a:t>
            </a:r>
            <a:r>
              <a:rPr b="0" lang="en-US" sz="4800" spc="-1" strike="noStrike">
                <a:solidFill>
                  <a:srgbClr val="a6d4a7"/>
                </a:solidFill>
                <a:latin typeface="Marker Felt"/>
                <a:ea typeface="Marker Felt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body paragraph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ody Paragraph Examp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Content Placeholder 3" descr="Shark_Silhouette.jpg"/>
          <p:cNvPicPr/>
          <p:nvPr/>
        </p:nvPicPr>
        <p:blipFill>
          <a:blip r:embed="rId1"/>
          <a:stretch/>
        </p:blipFill>
        <p:spPr>
          <a:xfrm>
            <a:off x="3448080" y="1246320"/>
            <a:ext cx="1888920" cy="1417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457200" y="2854440"/>
            <a:ext cx="822960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Source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irst of all, according to the Florida Museum of National History, your odds of being attacked by a shark are 1 in 11.5 million and your odds of being killed by a shark are less than 1 in 264.1 million. (USLA, ISAF)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comment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se numbers are incredibly low and should not make anyone afraid to go swimming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comment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media depicts sharks as incredibly violent and constantly attacking people, but this data obviously shows that this is not the case.  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comment)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more accurate way to describe shark attacks would be that though they do happen, it rarely results in death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601720" y="2678040"/>
            <a:ext cx="336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http://commons.wikimedia.org/wiki/File:Shark_Silhouette.jpg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ody Paragraph Transi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agraphs should flow togeth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nsitional Phrases” are used at the beginning of a  paragraph to introduce the next iss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es/Example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quence = First of all, Secondly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dition = In addition, Also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rast = On the other hand, However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llustrate = For example, For instance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457200" y="53514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06:05:52Z</dcterms:created>
  <dc:creator>Timothy Keene</dc:creator>
  <dc:description/>
  <dc:language>en-US</dc:language>
  <cp:lastModifiedBy>profile</cp:lastModifiedBy>
  <dcterms:modified xsi:type="dcterms:W3CDTF">2010-08-12T22:08:28Z</dcterms:modified>
  <cp:revision>11</cp:revision>
  <dc:subject/>
  <dc:title>THE 5 PARAGRAPH ESSAY</dc:title>
</cp:coreProperties>
</file>